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2D8DC-315F-4AC8-B1D2-6129975F9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A4EFF-4849-4D2B-AB97-B9CF08A18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 зо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выступлание –ИМХ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ценности 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тратегичности С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ECCBA-B6C4-478F-AE19-31B9EB06A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а ценности корпоратив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ние оптимиста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ние пессимиста-акцио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ВЕШЕННОЕ и ОБОСНОВАННОЕ Мнение ДИР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05D15-84AE-47D9-8B7F-AEB7DAE10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FE662-4FDE-4975-933A-20FDBA25F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068-8614-4425-BAEB-8F7D5F5C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C5E-C29A-4F4E-A8DA-E6C9A367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065-ED47-4F40-9FB7-CDC350F5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B8C-4B02-47FA-9340-A5F2CEA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785-7F10-4E23-8A81-BD98A9B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6D77-5F69-419A-AE82-97467BD1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819B-C460-49E3-9237-923AB40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0B5E-534B-4C52-8D71-4AF079B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A656-ED5A-414B-9651-D205C062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B67-5306-4232-BCE0-1FD0B846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6CD-8C9F-464E-83EC-60289F6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888-54D3-4E0C-A884-AA548D3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0C1-4D2D-46AF-9B59-1847B4B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6E61-CE6D-40FF-9793-30020BF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CDD-2FAB-4C47-8A4C-93E0C65B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621-F68F-4D7E-A8FB-E693F56B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5335-43B9-4353-BA81-D1929B2D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9E7E-146F-492A-B0CD-6ACBCA76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937F-2FB4-44CA-BE2C-4D412416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0FB9-9063-438B-836D-89E2FB93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2D7A-9FE1-4D44-8771-F37D64C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A004-2D1A-4C2F-B684-ABF37DB1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17F-EC00-4B2B-B281-567B619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8A0E-885D-466F-9C67-C392C324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05D9-303F-45B8-B6DF-329FC9B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89AD-E15D-45FF-9AD3-A4D6C00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590C-2B37-4413-895B-8F3B99E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1CAD-9374-4D7B-A8D6-7A2C9CF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3B16-457F-4E4D-9E7A-ACA93F0D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9991-CDCD-474D-AAD5-3CEA9CAA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189-D887-4ACB-A0CE-0F7C908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145-27BC-493E-B2C1-4202354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4AE-BEC7-4E68-BA9D-B81E6ED1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1C2-C6B5-4D06-BE71-DC81F2C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562-0194-47A7-94A6-376E731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3C2-E1B5-4A62-BED4-3E71F77D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02932-8AB7-44F3-BB67-9488C09FAA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ADE8C-741B-4A4F-B8F3-91BCC3252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448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828800"/>
            <a:ext cx="76899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9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B5694-27A0-4177-A291-C9762E1E63D3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7"/>
          <p:cNvSpPr/>
          <p:nvPr/>
        </p:nvSpPr>
        <p:spPr>
          <a:xfrm rot="18420000">
            <a:off x="7860240" y="2700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8"/>
          <p:cNvSpPr/>
          <p:nvPr/>
        </p:nvSpPr>
        <p:spPr>
          <a:xfrm rot="18420000">
            <a:off x="782640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50" name="Freeform 10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60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61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4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68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6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77" name="Freeform 37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39"/>
          <p:cNvGrpSpPr/>
          <p:nvPr/>
        </p:nvGrpSpPr>
        <p:grpSpPr>
          <a:xfrm>
            <a:off x="6889680" y="-151560"/>
            <a:ext cx="2982240" cy="2846160"/>
            <a:chOff x="6889680" y="-151560"/>
            <a:chExt cx="2982240" cy="2846160"/>
          </a:xfrm>
        </p:grpSpPr>
        <p:grpSp>
          <p:nvGrpSpPr>
            <p:cNvPr id="80" name="Group 40"/>
            <p:cNvGrpSpPr/>
            <p:nvPr/>
          </p:nvGrpSpPr>
          <p:grpSpPr>
            <a:xfrm>
              <a:off x="6889680" y="-151560"/>
              <a:ext cx="2982240" cy="2846160"/>
              <a:chOff x="6889680" y="-151560"/>
              <a:chExt cx="2982240" cy="2846160"/>
            </a:xfrm>
          </p:grpSpPr>
          <p:sp>
            <p:nvSpPr>
              <p:cNvPr id="81" name="Freeform 41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2" name="Group 42"/>
              <p:cNvGrpSpPr/>
              <p:nvPr/>
            </p:nvGrpSpPr>
            <p:grpSpPr>
              <a:xfrm>
                <a:off x="6889680" y="-151560"/>
                <a:ext cx="2982240" cy="2846160"/>
                <a:chOff x="6889680" y="-151560"/>
                <a:chExt cx="2982240" cy="2846160"/>
              </a:xfrm>
            </p:grpSpPr>
            <p:sp>
              <p:nvSpPr>
                <p:cNvPr id="83" name="Freeform 43"/>
                <p:cNvSpPr/>
                <p:nvPr/>
              </p:nvSpPr>
              <p:spPr>
                <a:xfrm rot="18420000">
                  <a:off x="7778880" y="-237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Freeform 44"/>
                <p:cNvSpPr/>
                <p:nvPr/>
              </p:nvSpPr>
              <p:spPr>
                <a:xfrm rot="18420000">
                  <a:off x="7903080" y="636480"/>
                  <a:ext cx="615600" cy="790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Freeform 45"/>
                <p:cNvSpPr/>
                <p:nvPr/>
              </p:nvSpPr>
              <p:spPr>
                <a:xfrm rot="18420000">
                  <a:off x="7510680" y="406080"/>
                  <a:ext cx="11559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Freeform 46"/>
                <p:cNvSpPr/>
                <p:nvPr/>
              </p:nvSpPr>
              <p:spPr>
                <a:xfrm rot="18420000">
                  <a:off x="7513200" y="57960"/>
                  <a:ext cx="173520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Freeform 47"/>
                <p:cNvSpPr/>
                <p:nvPr/>
              </p:nvSpPr>
              <p:spPr>
                <a:xfrm rot="18420000">
                  <a:off x="8382240" y="1853640"/>
                  <a:ext cx="3866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Freeform 48"/>
                <p:cNvSpPr/>
                <p:nvPr/>
              </p:nvSpPr>
              <p:spPr>
                <a:xfrm rot="18420000">
                  <a:off x="8283960" y="1668960"/>
                  <a:ext cx="41400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Freeform 49"/>
                <p:cNvSpPr/>
                <p:nvPr/>
              </p:nvSpPr>
              <p:spPr>
                <a:xfrm rot="18420000">
                  <a:off x="7799040" y="306720"/>
                  <a:ext cx="414000" cy="265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Freeform 50"/>
                <p:cNvSpPr/>
                <p:nvPr/>
              </p:nvSpPr>
              <p:spPr>
                <a:xfrm rot="18420000">
                  <a:off x="7735320" y="145080"/>
                  <a:ext cx="40932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1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"/>
          <p:cNvGrpSpPr/>
          <p:nvPr/>
        </p:nvGrpSpPr>
        <p:grpSpPr>
          <a:xfrm>
            <a:off x="0" y="0"/>
            <a:ext cx="7240680" cy="1979280"/>
            <a:chOff x="0" y="0"/>
            <a:chExt cx="7240680" cy="1979280"/>
          </a:xfrm>
        </p:grpSpPr>
        <p:sp>
          <p:nvSpPr>
            <p:cNvPr id="129" name="Freeform 2"/>
            <p:cNvSpPr/>
            <p:nvPr/>
          </p:nvSpPr>
          <p:spPr>
            <a:xfrm>
              <a:off x="0" y="924840"/>
              <a:ext cx="7121520" cy="1054440"/>
            </a:xfrm>
            <a:prstGeom prst="pie">
              <a:avLst/>
            </a:pr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"/>
            <p:cNvSpPr/>
            <p:nvPr/>
          </p:nvSpPr>
          <p:spPr>
            <a:xfrm>
              <a:off x="0" y="0"/>
              <a:ext cx="7240680" cy="190188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6682F-7187-4643-B674-3CE316796C0F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61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Calibri"/>
              </a:rPr>
              <a:t>О ценности корпоративного управления и стратегической деятельности Совета директор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474660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23c"/>
                </a:solidFill>
                <a:latin typeface="Calibri"/>
              </a:rPr>
              <a:t>V</a:t>
            </a:r>
            <a:r>
              <a:rPr b="1" lang="ru-RU" sz="2400" spc="-1" strike="noStrike">
                <a:solidFill>
                  <a:srgbClr val="ff023c"/>
                </a:solidFill>
                <a:latin typeface="Calibri"/>
              </a:rPr>
              <a:t> МЕЖДУНАРОДНАЯ КОНФЕРЕ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2"/>
          <p:cNvSpPr/>
          <p:nvPr/>
        </p:nvSpPr>
        <p:spPr>
          <a:xfrm>
            <a:off x="3337560" y="613404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</a:rPr>
              <a:t>Ульяновск -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ubtitle 30"/>
          <p:cNvSpPr/>
          <p:nvPr/>
        </p:nvSpPr>
        <p:spPr>
          <a:xfrm>
            <a:off x="1371600" y="1604880"/>
            <a:ext cx="6400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23c"/>
                </a:solidFill>
                <a:latin typeface="Calibri"/>
              </a:rPr>
              <a:t>Евгений Плакс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Logo-8*.tiff"/>
          <p:cNvPicPr/>
          <p:nvPr/>
        </p:nvPicPr>
        <p:blipFill>
          <a:blip r:embed="rId2"/>
          <a:stretch/>
        </p:blipFill>
        <p:spPr>
          <a:xfrm>
            <a:off x="4118040" y="326880"/>
            <a:ext cx="879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Роль Совета директоров в стратегическом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управлении бизнес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сновных направлений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uide-line) развития бизнеса и стратегических  приорит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новка KP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исполнения стратегических планов и оперативных результа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деятельности руков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портфеля бизнесов по рынкам и продук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тратегической эффективности основных бизнес-процес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тратегической платф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ческое управление рисками и оперативные антикризисные меропри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ческая оценка деятельности Совета директ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ственность директ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лгосрочная гармонизация интересов стейкхолде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6048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беспечение непрерывности бизнес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стратегическая 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520" y="19044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тегические ориентиры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41520" y="1019160"/>
            <a:ext cx="270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тегическая добавлен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нос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3521160" y="3827520"/>
            <a:ext cx="1224000" cy="1079280"/>
          </a:xfrm>
          <a:prstGeom prst="cube">
            <a:avLst>
              <a:gd name="adj" fmla="val 3284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3881520" y="1235160"/>
            <a:ext cx="0" cy="33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089160" y="3179880"/>
            <a:ext cx="2592360" cy="2160360"/>
          </a:xfrm>
          <a:prstGeom prst="cube">
            <a:avLst>
              <a:gd name="adj" fmla="val 34231"/>
            </a:avLst>
          </a:prstGeom>
          <a:solidFill>
            <a:srgbClr val="3366ff">
              <a:alpha val="44000"/>
            </a:srgbClr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2441520" y="2171880"/>
            <a:ext cx="4464000" cy="3816000"/>
          </a:xfrm>
          <a:prstGeom prst="cube">
            <a:avLst>
              <a:gd name="adj" fmla="val 36736"/>
            </a:avLst>
          </a:prstGeom>
          <a:solidFill>
            <a:srgbClr val="66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7194600" y="4403880"/>
            <a:ext cx="226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никальное предложение цен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-6480" y="5372280"/>
            <a:ext cx="22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енность человеческого капитал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3879720" y="4546440"/>
            <a:ext cx="3889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2009520" y="4546440"/>
            <a:ext cx="1871640" cy="187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4313160" y="45464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089160" y="36115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2728800" y="4643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394240" y="45464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3089160" y="29145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2297160" y="5075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473880" y="45464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1793880" y="56991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3089160" y="19065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82920" y="2095560"/>
            <a:ext cx="4464000" cy="3816360"/>
          </a:xfrm>
          <a:prstGeom prst="cube">
            <a:avLst>
              <a:gd name="adj" fmla="val 36736"/>
            </a:avLst>
          </a:prstGeom>
          <a:solidFill>
            <a:srgbClr val="66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ые факторы рост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пы ро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ционная эффе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ые факторы рост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UVP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сурсосбережение для клиен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ean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ость для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9120" y="1303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ые факторы рост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C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utoShape 5"/>
          <p:cNvSpPr/>
          <p:nvPr/>
        </p:nvSpPr>
        <p:spPr>
          <a:xfrm rot="5400000">
            <a:off x="2138400" y="1210320"/>
            <a:ext cx="5112000" cy="5040360"/>
          </a:xfrm>
          <a:prstGeom prst="hexagon">
            <a:avLst>
              <a:gd name="adj" fmla="val 2535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5"/>
          <p:cNvSpPr/>
          <p:nvPr/>
        </p:nvSpPr>
        <p:spPr>
          <a:xfrm rot="5400000">
            <a:off x="3517200" y="4795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ммун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141120" y="51166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пера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7020000" y="1981080"/>
            <a:ext cx="20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дер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-138240" y="194940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измен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2894040" y="6858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тегическое ви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2822400" y="6338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я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6985080" y="5105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25"/>
          <p:cNvSpPr/>
          <p:nvPr/>
        </p:nvSpPr>
        <p:spPr>
          <a:xfrm rot="19994400">
            <a:off x="3973320" y="3476160"/>
            <a:ext cx="2881080" cy="2305080"/>
          </a:xfrm>
          <a:prstGeom prst="triangle">
            <a:avLst>
              <a:gd name="adj" fmla="val 42639"/>
            </a:avLst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124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26"/>
          <p:cNvSpPr/>
          <p:nvPr/>
        </p:nvSpPr>
        <p:spPr>
          <a:xfrm rot="9208200">
            <a:off x="2530080" y="1662120"/>
            <a:ext cx="2879640" cy="2309760"/>
          </a:xfrm>
          <a:prstGeom prst="triangle">
            <a:avLst>
              <a:gd name="adj" fmla="val 41116"/>
            </a:avLst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6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28"/>
          <p:cNvSpPr/>
          <p:nvPr/>
        </p:nvSpPr>
        <p:spPr>
          <a:xfrm rot="16200000">
            <a:off x="4694400" y="2470320"/>
            <a:ext cx="2520720" cy="2520720"/>
          </a:xfrm>
          <a:prstGeom prst="triangle">
            <a:avLst>
              <a:gd name="adj" fmla="val 50440"/>
            </a:avLst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30"/>
          <p:cNvSpPr/>
          <p:nvPr/>
        </p:nvSpPr>
        <p:spPr>
          <a:xfrm rot="1605000">
            <a:off x="2514600" y="3484440"/>
            <a:ext cx="2855880" cy="2306880"/>
          </a:xfrm>
          <a:prstGeom prst="triangle">
            <a:avLst>
              <a:gd name="adj" fmla="val 60648"/>
            </a:avLst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13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31"/>
          <p:cNvSpPr/>
          <p:nvPr/>
        </p:nvSpPr>
        <p:spPr>
          <a:xfrm rot="12429600">
            <a:off x="4028760" y="1672560"/>
            <a:ext cx="2808360" cy="2305080"/>
          </a:xfrm>
          <a:prstGeom prst="triangle">
            <a:avLst>
              <a:gd name="adj" fmla="val 59269"/>
            </a:avLst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186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32"/>
          <p:cNvSpPr/>
          <p:nvPr/>
        </p:nvSpPr>
        <p:spPr>
          <a:xfrm>
            <a:off x="4694400" y="1174680"/>
            <a:ext cx="0" cy="51120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34"/>
          <p:cNvSpPr/>
          <p:nvPr/>
        </p:nvSpPr>
        <p:spPr>
          <a:xfrm flipV="1">
            <a:off x="2174760" y="2470320"/>
            <a:ext cx="5040360" cy="252072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35"/>
          <p:cNvSpPr/>
          <p:nvPr/>
        </p:nvSpPr>
        <p:spPr>
          <a:xfrm>
            <a:off x="2174760" y="2398680"/>
            <a:ext cx="5040360" cy="259236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29"/>
          <p:cNvSpPr/>
          <p:nvPr/>
        </p:nvSpPr>
        <p:spPr>
          <a:xfrm rot="5400000">
            <a:off x="2137680" y="2434680"/>
            <a:ext cx="2592360" cy="2519640"/>
          </a:xfrm>
          <a:prstGeom prst="triangle">
            <a:avLst>
              <a:gd name="adj" fmla="val 51009"/>
            </a:avLst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19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36"/>
          <p:cNvSpPr/>
          <p:nvPr/>
        </p:nvSpPr>
        <p:spPr>
          <a:xfrm rot="20131200">
            <a:off x="4250160" y="2727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оммуник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37"/>
          <p:cNvSpPr/>
          <p:nvPr/>
        </p:nvSpPr>
        <p:spPr>
          <a:xfrm rot="1601400">
            <a:off x="2113920" y="2663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38"/>
          <p:cNvSpPr/>
          <p:nvPr/>
        </p:nvSpPr>
        <p:spPr>
          <a:xfrm rot="5400000">
            <a:off x="3548520" y="46105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17160" y="2088720"/>
            <a:ext cx="858852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023c"/>
                </a:solidFill>
                <a:latin typeface="Calibri"/>
              </a:rPr>
              <a:t>Se non è</a:t>
            </a:r>
            <a:r>
              <a:rPr b="1" lang="ru-RU" sz="5400" spc="-1" strike="noStrike">
                <a:solidFill>
                  <a:srgbClr val="ff023c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023c"/>
                </a:solidFill>
                <a:latin typeface="Calibri"/>
              </a:rPr>
              <a:t>vero, è</a:t>
            </a:r>
            <a:r>
              <a:rPr b="1" lang="ru-RU" sz="5400" spc="-1" strike="noStrike">
                <a:solidFill>
                  <a:srgbClr val="ff023c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023c"/>
                </a:solidFill>
                <a:latin typeface="Calibri"/>
              </a:rPr>
              <a:t>ben</a:t>
            </a:r>
            <a:r>
              <a:rPr b="1" lang="ru-RU" sz="5400" spc="-1" strike="noStrike">
                <a:solidFill>
                  <a:srgbClr val="ff023c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023c"/>
                </a:solidFill>
                <a:latin typeface="Calibri"/>
              </a:rPr>
              <a:t>trovato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241800"/>
            <a:ext cx="64008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imh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23c"/>
                </a:solidFill>
                <a:latin typeface="Calibri"/>
              </a:rPr>
              <a:t>T&amp;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Евгений Плаксен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обенности корпоративного 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44160"/>
            <a:ext cx="403848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теор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тратег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тчеты руковод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суждение вопро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тмосфера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лючевые вопрос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Целевы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нтроль за менеджмент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ействия в интересах акцион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облюдение требований зак-ва в части корпоративного управ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244520"/>
            <a:ext cx="403848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практи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Формулируется в др. 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Форма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верхностное, об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тарые приятели или подчин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Прячутся» под ков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 оцениваю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Секр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существляется в другом 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ействия в интересах отдельных акционер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Формальное соблю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1759320" y="142920"/>
            <a:ext cx="74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з «секретных»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териалов Ассоциации независимых директо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3622680" y="1727280"/>
            <a:ext cx="2057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3741840" y="3040200"/>
            <a:ext cx="1938240" cy="3030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ДА о стака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3759120" y="3344760"/>
            <a:ext cx="1936800" cy="3030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3"/>
          <a:stretch/>
        </p:blipFill>
        <p:spPr>
          <a:xfrm>
            <a:off x="6375240" y="4132440"/>
            <a:ext cx="1938600" cy="193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4"/>
          <a:stretch/>
        </p:blipFill>
        <p:spPr>
          <a:xfrm>
            <a:off x="3741840" y="1135080"/>
            <a:ext cx="1938240" cy="1936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/>
          <p:cNvPicPr/>
          <p:nvPr/>
        </p:nvPicPr>
        <p:blipFill>
          <a:blip r:embed="rId5"/>
          <a:stretch/>
        </p:blipFill>
        <p:spPr>
          <a:xfrm>
            <a:off x="1073160" y="4132440"/>
            <a:ext cx="2587680" cy="193824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5" descr=""/>
          <p:cNvPicPr/>
          <p:nvPr/>
        </p:nvPicPr>
        <p:blipFill>
          <a:blip r:embed="rId6"/>
          <a:stretch/>
        </p:blipFill>
        <p:spPr>
          <a:xfrm>
            <a:off x="2017800" y="3067200"/>
            <a:ext cx="664920" cy="93168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6" descr=""/>
          <p:cNvPicPr/>
          <p:nvPr/>
        </p:nvPicPr>
        <p:blipFill>
          <a:blip r:embed="rId7"/>
          <a:stretch/>
        </p:blipFill>
        <p:spPr>
          <a:xfrm>
            <a:off x="4327560" y="103320"/>
            <a:ext cx="658800" cy="93348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7" descr=""/>
          <p:cNvPicPr/>
          <p:nvPr/>
        </p:nvPicPr>
        <p:blipFill>
          <a:blip r:embed="rId8"/>
          <a:stretch/>
        </p:blipFill>
        <p:spPr>
          <a:xfrm>
            <a:off x="6973920" y="3200400"/>
            <a:ext cx="615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8800" y="482400"/>
            <a:ext cx="8686800" cy="20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Эффективное корпоративное управление с точки зрения акционеров-принципал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62404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вышение акционерной стоимости и выплаты дивиден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вышение эффективности бизнеса и контроля за сохранностью актив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нижение политических рисков ведения бизне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6990120" y="21420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НД-источ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Diagram 4" descr=""/>
          <p:cNvPicPr/>
          <p:nvPr/>
        </p:nvPicPr>
        <p:blipFill>
          <a:blip r:embed="rId2"/>
          <a:stretch/>
        </p:blipFill>
        <p:spPr>
          <a:xfrm>
            <a:off x="6278400" y="5181480"/>
            <a:ext cx="28051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онная модель корпоративного упра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Content Placeholder 6" descr=""/>
          <p:cNvPicPr/>
          <p:nvPr/>
        </p:nvPicPr>
        <p:blipFill>
          <a:blip r:embed="rId2"/>
          <a:stretch/>
        </p:blipFill>
        <p:spPr>
          <a:xfrm>
            <a:off x="407880" y="1596960"/>
            <a:ext cx="4822920" cy="4724640"/>
          </a:xfrm>
          <a:prstGeom prst="rect">
            <a:avLst/>
          </a:prstGeom>
          <a:ln w="0">
            <a:noFill/>
          </a:ln>
        </p:spPr>
      </p:pic>
      <p:pic>
        <p:nvPicPr>
          <p:cNvPr id="204" name="Diagram 7" descr=""/>
          <p:cNvPicPr/>
          <p:nvPr/>
        </p:nvPicPr>
        <p:blipFill>
          <a:blip r:embed="rId3"/>
          <a:stretch/>
        </p:blipFill>
        <p:spPr>
          <a:xfrm>
            <a:off x="5846760" y="1957320"/>
            <a:ext cx="2651040" cy="386388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8" descr=""/>
          <p:cNvPicPr/>
          <p:nvPr/>
        </p:nvPicPr>
        <p:blipFill>
          <a:blip r:embed="rId4"/>
          <a:stretch/>
        </p:blipFill>
        <p:spPr>
          <a:xfrm>
            <a:off x="4711680" y="2193840"/>
            <a:ext cx="1042920" cy="7444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9"/>
          <p:cNvSpPr/>
          <p:nvPr/>
        </p:nvSpPr>
        <p:spPr>
          <a:xfrm>
            <a:off x="2924280" y="618012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O, COO, CFO, CIO, CAO, C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759120" y="3344760"/>
            <a:ext cx="1936800" cy="3030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"/>
          <p:cNvPicPr/>
          <p:nvPr/>
        </p:nvPicPr>
        <p:blipFill>
          <a:blip r:embed="rId3"/>
          <a:stretch/>
        </p:blipFill>
        <p:spPr>
          <a:xfrm>
            <a:off x="6375240" y="4132440"/>
            <a:ext cx="1938600" cy="193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"/>
          <p:cNvPicPr/>
          <p:nvPr/>
        </p:nvPicPr>
        <p:blipFill>
          <a:blip r:embed="rId4"/>
          <a:stretch/>
        </p:blipFill>
        <p:spPr>
          <a:xfrm>
            <a:off x="3741840" y="1135080"/>
            <a:ext cx="1938240" cy="1936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5"/>
          <a:stretch/>
        </p:blipFill>
        <p:spPr>
          <a:xfrm>
            <a:off x="1073160" y="4132440"/>
            <a:ext cx="2587680" cy="193824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5" descr=""/>
          <p:cNvPicPr/>
          <p:nvPr/>
        </p:nvPicPr>
        <p:blipFill>
          <a:blip r:embed="rId6"/>
          <a:stretch/>
        </p:blipFill>
        <p:spPr>
          <a:xfrm>
            <a:off x="2017800" y="3067200"/>
            <a:ext cx="664920" cy="93168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7"/>
          <a:stretch/>
        </p:blipFill>
        <p:spPr>
          <a:xfrm>
            <a:off x="4327560" y="103320"/>
            <a:ext cx="658800" cy="9334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7" descr=""/>
          <p:cNvPicPr/>
          <p:nvPr/>
        </p:nvPicPr>
        <p:blipFill>
          <a:blip r:embed="rId8"/>
          <a:stretch/>
        </p:blipFill>
        <p:spPr>
          <a:xfrm>
            <a:off x="6973920" y="3200400"/>
            <a:ext cx="615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0320" y="982440"/>
            <a:ext cx="8923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лючевые задачи корпоративного управ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896840"/>
            <a:ext cx="597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рганизационное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инансовая поли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нутренний контроль и ау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ценка и вознаграждение менедж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правление рис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стойчивое развитие и корпоративная социальная ответств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крытие информации и прозра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тимизация бизнес проце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блюдение баланса интересов стейкхолд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заимоотношения с инвесто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ланирование преем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897200"/>
            <a:ext cx="2293920" cy="47242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3919320" y="7920"/>
            <a:ext cx="50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Практики корпоративного управления в Росс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пределение границ национальной моде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Экспертно-аналитический докл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Москва, 201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0:05:21Z</dcterms:created>
  <dc:creator>Evgeny  Plaksenkov</dc:creator>
  <dc:description/>
  <cp:keywords>парадигма</cp:keywords>
  <dc:language>en-US</dc:language>
  <cp:lastModifiedBy>Elena Plaksenkova</cp:lastModifiedBy>
  <cp:lastPrinted>2010-10-13T12:52:31Z</cp:lastPrinted>
  <dcterms:modified xsi:type="dcterms:W3CDTF">2011-10-05T23:10:09Z</dcterms:modified>
  <cp:revision>98</cp:revision>
  <dc:subject/>
  <dc:title>Трансформация бизнеса</dc:title>
</cp:coreProperties>
</file>